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FD5F-42CC-4CFD-ADFA-A552FEDE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s://pcobern.wordpress.com/2014/10/09/like-light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kyscanusa.com/how-lightning-is-create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youtube.com/watch?v=h7c6z_3dLE4&amp;feature=youtu.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www.youtube.com/watch?v=Q3Awp-3CxSU&amp;feature=youtu.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logto.com/city/2011/05/downtown_toronto_gets_lit_up_by_passing_stor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://globalnews.ca/news/1436370/watch-cn-tower-struck-by-lightning-during-overnight-stor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designerysigns.com/static-cling-deca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othingnerdy.wikispaces.com/ELECTRIC+CHARGE?responseToken=76c1555177c38a90f48b9fec8e34899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ystaticguard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mazon.com/Bounce-Fresh-Fabric-Softener-Sheets/dp/B004CQ44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030-D95E-4B1E-A686-EAFA43BC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934-2FD0-45BE-AF4B-DEF19F6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290-8C4F-4E60-A7CC-EE4E01AC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B9E-F66D-46B5-A5A5-068A7D39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29-C9C9-4345-8DF1-7D7C29D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32B-65A8-4DC1-80F5-5F168DD9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E22-17E7-4837-B103-D3CA9773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594-A984-497F-9B4D-CCA117CB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0AD-C037-41B6-8F3B-F9CF51E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B0D-0C6D-4F3C-8B84-BB0FF81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031-676E-471D-A276-61CBA89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8BA-7B9C-420E-B15D-2867EF7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5EFE-6EF9-4C24-9F39-DD4A8D17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lobalnews.ca/news/1436370/watch-cn-tower-struck-by-lightning-during-overnight-stor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Electricity &amp; Dischar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ght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700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CN T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uses for static electric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st M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51200" y="1981080"/>
            <a:ext cx="524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Cling De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1760" y="1981080"/>
            <a:ext cx="365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cop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82720" y="1981080"/>
            <a:ext cx="55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thi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6T13:21:23Z</dcterms:created>
  <dc:creator>rubina khan</dc:creator>
  <dc:description/>
  <dc:language>en-US</dc:language>
  <cp:lastModifiedBy>rubina khan</cp:lastModifiedBy>
  <dcterms:modified xsi:type="dcterms:W3CDTF">2015-03-06T14:51:54Z</dcterms:modified>
  <cp:revision>12</cp:revision>
  <dc:subject/>
  <dc:title>Static Electricity</dc:title>
</cp:coreProperties>
</file>